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8714-12BD-4836-94C5-66B4CCDF9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050000"/>
            <a:ext cx="77724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986B-A94B-4078-BAF3-D6CC61D2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1871-81F1-4782-9407-DE13829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1773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1773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050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050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050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9AE1-E280-4A7A-B0D7-D84CE25F6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E7C-59F5-4700-B7DB-BB2D44779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049-C3D8-4AF7-9E86-3E42DFCE5A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9F6-2AC1-4361-8131-46912E1ACC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0CD-2E94-4AC1-B3D2-73DEDDDFD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D35-00F6-4E9C-A6C5-E9F6CDB2F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76000" y="213840"/>
            <a:ext cx="746748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CB6-7F1E-45DF-920A-8B9D930B2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FBF-389C-4520-ABF6-A2C1704DB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4E66-B978-48A1-9B6B-D99293C1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86C-6942-45EB-B5F0-06DF650665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050000"/>
            <a:ext cx="77724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010-4795-487C-9672-54CDD43E5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050000"/>
            <a:ext cx="77724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5C3-7320-4EF1-A9DD-F5A2671DA3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5DE-5AC7-4B72-A150-7A2E7506B4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1773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1773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050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050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050000"/>
            <a:ext cx="250236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C30-87B7-4A88-B5FD-ABFA9FAB7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A64D-E4C8-45CD-B5F0-528654F5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F760-F954-41E2-8EF4-D9D7C7E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EA16-6F82-4230-818E-85850DFD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13840"/>
            <a:ext cx="746748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3925-C1D4-43FE-8B7F-185A219E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0AAC-5095-42B1-9883-1DDBE116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050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8323-D2D4-481B-A629-297C594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773000"/>
            <a:ext cx="37926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050000"/>
            <a:ext cx="777240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BA8B-10EF-46F7-840F-96769CA5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A14-5293-493A-840F-8DA7A6A48B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71640" y="620640"/>
            <a:ext cx="31680" cy="1052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1052640"/>
            <a:ext cx="8693280" cy="474480"/>
            <a:chOff x="179280" y="1052640"/>
            <a:chExt cx="8693280" cy="474480"/>
          </a:xfrm>
        </p:grpSpPr>
        <p:sp>
          <p:nvSpPr>
            <p:cNvPr id="6" name=""/>
            <p:cNvSpPr/>
            <p:nvPr/>
          </p:nvSpPr>
          <p:spPr>
            <a:xfrm flipV="1">
              <a:off x="179280" y="1267200"/>
              <a:ext cx="869328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4360" y="1052640"/>
              <a:ext cx="438120" cy="47448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105264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3675-61F2-4193-BB27-93858F32EF92}" type="slidenum">
              <a:rPr b="0" lang="en-US" sz="1400" spc="-1" strike="noStrike">
                <a:solidFill>
                  <a:srgbClr val="808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86920" y="1125000"/>
            <a:ext cx="76280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Univers Condensed"/>
              </a:rPr>
              <a:t>Click to edit the title text format</a:t>
            </a:r>
            <a:endParaRPr b="1" lang="en-US" sz="3600" spc="-1" strike="noStrike">
              <a:solidFill>
                <a:srgbClr val="808000"/>
              </a:solidFill>
              <a:latin typeface="Univers Condensed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476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8000"/>
                </a:solidFill>
                <a:latin typeface="Univers Condensed"/>
              </a:rPr>
              <a:t>Полтавський університет споживчої кооперац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260280"/>
            <a:ext cx="8692920" cy="1145880"/>
            <a:chOff x="179280" y="260280"/>
            <a:chExt cx="8692920" cy="1145880"/>
          </a:xfrm>
        </p:grpSpPr>
        <p:grpSp>
          <p:nvGrpSpPr>
            <p:cNvPr id="49" name=""/>
            <p:cNvGrpSpPr/>
            <p:nvPr/>
          </p:nvGrpSpPr>
          <p:grpSpPr>
            <a:xfrm>
              <a:off x="179280" y="260280"/>
              <a:ext cx="8692920" cy="1052280"/>
              <a:chOff x="179280" y="260280"/>
              <a:chExt cx="8692920" cy="105228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179280" y="907560"/>
                <a:ext cx="8692920" cy="55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71280" y="260280"/>
                <a:ext cx="31680" cy="10522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684000" y="691920"/>
                <a:ext cx="711000" cy="474480"/>
                <a:chOff x="684000" y="691920"/>
                <a:chExt cx="711000" cy="47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84000" y="691920"/>
                  <a:ext cx="438120" cy="4744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066320" y="691920"/>
                  <a:ext cx="3286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5" name="" descr="Полтавський університет споживчої кооперациї України"/>
              <p:cNvPicPr/>
              <p:nvPr/>
            </p:nvPicPr>
            <p:blipFill>
              <a:blip r:embed="rId2"/>
              <a:stretch/>
            </p:blipFill>
            <p:spPr>
              <a:xfrm>
                <a:off x="179280" y="260280"/>
                <a:ext cx="720720" cy="569880"/>
              </a:xfrm>
              <a:prstGeom prst="rect">
                <a:avLst/>
              </a:prstGeom>
              <a:ln w="3240">
                <a:solidFill>
                  <a:srgbClr val="808000"/>
                </a:solidFill>
                <a:miter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1042920" y="981000"/>
              <a:ext cx="936720" cy="425160"/>
            </a:xfrm>
            <a:prstGeom prst="foldedCorner">
              <a:avLst>
                <a:gd name="adj" fmla="val 29662"/>
              </a:avLst>
            </a:prstGeom>
            <a:solidFill>
              <a:srgbClr val="ffffdf"/>
            </a:solidFill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808000"/>
                  </a:solidFill>
                  <a:latin typeface="Arial"/>
                </a:rPr>
                <a:t>ПФЗД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213840"/>
            <a:ext cx="8116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аріанти розташування  пиріжкової тарілки</a:t>
            </a:r>
            <a:r>
              <a:rPr b="0" lang="uk-UA" sz="3500" spc="-1" strike="noStrike">
                <a:solidFill>
                  <a:srgbClr val="808000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240" y="1268280"/>
            <a:ext cx="4181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58920" y="1125360"/>
          <a:ext cx="662616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66261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8664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3:41:42Z</dcterms:created>
  <dc:creator>strashko</dc:creator>
  <dc:description/>
  <dc:language>en-US</dc:language>
  <cp:lastModifiedBy>Admin</cp:lastModifiedBy>
  <dcterms:modified xsi:type="dcterms:W3CDTF">2012-11-24T16:21:09Z</dcterms:modified>
  <cp:revision>29</cp:revision>
  <dc:subject/>
  <dc:title>Слайд 1</dc:title>
</cp:coreProperties>
</file>